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F8A-7F74-4E5F-AABF-BA2452E7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1B3-6515-4739-B66B-6C3D0054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C3E-851C-4E0C-885B-9A1F9193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A14-7CB4-4790-A128-489C5234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51B-71D6-42FA-A296-F8F93BF9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2A5-397C-40D6-A98D-AA74EBBE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7EE-8046-4648-9117-9490846F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6D8-82A3-465D-9B9B-68901A21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06D-E226-4030-9869-19911B33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B2E-D6E3-4ECE-AE9F-D4A98A22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DD5-81F7-4026-BFF1-CC775AE3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FE5-BFA0-4D59-A684-58EA9236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52F06ED0-97FB-495C-A4D3-73B9E405C82F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14640" y="4257720"/>
            <a:ext cx="6724440" cy="168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-EVN science in 2006-2007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Zsolt Paragi (JIV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for the EXPRe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380880"/>
            <a:ext cx="2743200" cy="1762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2133720"/>
            <a:ext cx="3062160" cy="213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38480" y="2133720"/>
            <a:ext cx="2514600" cy="2133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28600" y="2895480"/>
            <a:ext cx="3809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7920" y="120600"/>
            <a:ext cx="43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SI 61+303 campaig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33520"/>
            <a:ext cx="83059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nary XRB system, also source of very energetic gamma ray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source of these? Earlier hypothesis: microquasar j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nt VLBA observations (Mioduszewski et al.) suggest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acting pulsar wind sourc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IC collaboration observations including e-EVN, VLBA, MERLIN, CHANDRA in Octobe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5440" y="3191040"/>
            <a:ext cx="4586040" cy="30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38240" y="2743200"/>
            <a:ext cx="2528640" cy="1685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0280" y="3086280"/>
            <a:ext cx="3640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GIC telescope and a view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s surroundings in La Palma.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ble of detecting very high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mma 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lescope is operated by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IC collaboration of 17 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ce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http://wwwmagic.mppmu.mpg.de/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DD5-1888-46DC-890F-244552BFA6B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7920" y="12060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nd the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335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040" y="308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1578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71640" y="2448000"/>
            <a:ext cx="7562880" cy="1895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3124080" cy="1985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51480" y="4343400"/>
            <a:ext cx="5279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ltimate answer on the nature of the binary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 and X-rays originate from a different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electrons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indication for temporal correlation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rays and 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bert et al. (2008), Astrophys. J. (accepte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tro-ph/0801.3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063-A8CE-4DDE-8006-D6F5B1AA872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6840" y="120600"/>
            <a:ext cx="472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GR 17303-0601 resul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3240" y="5791320"/>
            <a:ext cx="37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. Pandey, Z. Paragi, P. Durouchoux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. Bignall, PoS(Dynamic2007)0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43520" y="1143000"/>
            <a:ext cx="4025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L source, with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 counterpart showing bi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e, and associated(?) radio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V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1520" y="1066680"/>
            <a:ext cx="3514680" cy="3086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590640" cy="3838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61800" y="4381560"/>
            <a:ext cx="43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VLBI  confirms compactness, but 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on is inconsistent with optical co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associated, radio source is no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microquasar jet – likely background A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6BE-D4B8-4EBB-94FF-23B1F578D74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7200" y="120600"/>
            <a:ext cx="81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RA and e-VLBI observations of Alg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2960" y="990720"/>
            <a:ext cx="69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l is one of the most famous variable stars, also known as beta Pers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647960" cy="3479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57800" y="3809880"/>
            <a:ext cx="3352680" cy="2154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38360" y="1486080"/>
            <a:ext cx="381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very nearby, only 26 parsecs a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for optical/radio interfer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l is active from radio to the X-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s, besides the optical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e to regular eclip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8480" y="5143680"/>
            <a:ext cx="44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ist’s impression on the close bina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e web. The K-subgiant is the sour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F96-2E85-488E-B5FF-0C62D7867B4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66840" y="12060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CHARA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4920" y="762120"/>
            <a:ext cx="49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HARA array is located at Mount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lifornia, USA, and is operat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er for High Angular Resolution for Astr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http://www.chara.gsu.edu/CHAR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7714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19720" y="30290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52280" y="34290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9A0-593D-401D-80CE-621D648A455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6120" y="12060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RA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28680" y="1066680"/>
            <a:ext cx="242100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 fringes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fter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ed vis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tudes vs. 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 are show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057320"/>
            <a:ext cx="2895840" cy="2066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505320" y="1066680"/>
            <a:ext cx="2895480" cy="2071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04920" y="3284640"/>
            <a:ext cx="4343400" cy="3039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60240" y="3619440"/>
            <a:ext cx="35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tted orbital parameters to the 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nd geometry of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d distance: 26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4 p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accurate than HIPPARC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62760" y="5219640"/>
            <a:ext cx="3999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agi et al., submitted to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Manchester MRU proceed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sizmadia et al. (refereed paper in pre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804-C1F7-45A3-9D5E-ABFED108E11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91200" y="3581280"/>
            <a:ext cx="3419280" cy="2676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2919240"/>
            <a:ext cx="4457880" cy="3481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8600" y="838080"/>
            <a:ext cx="3124080" cy="3005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68280" y="120600"/>
            <a:ext cx="71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lgol, 14 December 2006 e-EVN ru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49680" y="1001880"/>
            <a:ext cx="533448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taneous optical photometry and e-EVN ob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 GHz, 256 Mbps) during secondary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flared – total intensity and circular 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s consistent between WSRT and e-EV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re emission ~2 mas offset from the CP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2400" y="26668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ted proper motion dur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hours run –fitted orbita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AB close binary, but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097000" y="685800"/>
            <a:ext cx="5675400" cy="5791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33920" y="160020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Dedicated observations of such f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will be challenging even for e-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8680" y="19591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029-39A5-4541-A824-DCBE417B101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5040" y="2286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upernovae: and old story with e-EV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76920" y="4172040"/>
            <a:ext cx="3962160" cy="2219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990720"/>
            <a:ext cx="45720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2001em was discovered on 15 September 2001 in UGC11794 galaxy (Pepenkova 200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shift z~0.02 corresponding to a distance of 80~Mp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ippenko and Chornok (2001) classified it as type Ib/c, most likely 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ptional radio and X-ray lumino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ff axis GRB, developing late radio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e to jet break?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quite a 1 mJy radi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N observations: Cm, Jb2, On, Tr, Wb (128Mbps), +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recibo 300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64 Mb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18cm, on 2005 Mar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tative detection (4.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of the first real faint target with e-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agi et al. (2005), MSAI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6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319560" cy="3203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38800" y="91440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rrett et al.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22A-3B0E-486B-A882-84EA08110DB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63240" y="228600"/>
            <a:ext cx="55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N 2007gr ToO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407960"/>
            <a:ext cx="4572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2007gr was discovered on 15 Aug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KAIT (CBET 1034); identifi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 Ib/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ance is about 7.3 Mpc, 10x closer than SN 2001em w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A discovers 610 microJy radi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oderberg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EVN observations: Da, Jb2, On, Tr, Wb (256Mbps), at 6cm, on 2007 Sep 6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m detection (5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of the super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in the VLA error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agi et al. (2007), ATel #1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105520" y="1380960"/>
            <a:ext cx="3647880" cy="4334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621-FAC4-46DC-ACFE-4FFE10B7481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4981320" cy="6477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251040" y="533520"/>
            <a:ext cx="278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fir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Tel 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rom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EV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144-34C9-45ED-B520-D7208611FD1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50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1160" y="457200"/>
            <a:ext cx="75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will e-VLBI offer for us one 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37160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Gbps data rates/telescope, two orders of 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ter sensitivity, “full” uv-coverage, flexibili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1520" y="2514600"/>
            <a:ext cx="62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the e-EVN can offer toda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2760" y="3200400"/>
            <a:ext cx="88596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ensitivity and resolution compared to EVN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lexibility for rapid respons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 feedback, you know if it works, you know what you obser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quick decision about more observations (VLBI or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access, easy use – high level of PI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C86-6D87-4E39-B166-5B4E73F980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159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07400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e e-EVN has participated in a variety of science observation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contributed to results carried out in ambitious multi-waveb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e ‘used’ the e-VLBI developments to stir a bit of noise 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e EVN, and attract new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ut more is needed to make e-EVN a very competitive, unique instr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8D2-4DAF-43D2-B14D-FAAC4FDF6A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159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What else astronomers want?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468440"/>
            <a:ext cx="7073640" cy="47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ter sensitivity and *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ill happen with new radio telescopes being connected so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recibo 300m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256 Mbps spring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hanghai +2 new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1 Gpbs available (not operationally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lsberg 100m — expected spring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bes 40m — expected 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ter flexibility, not fixed dates, allow multiple epochs to follow up transient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8 will get close to disk-recording VLBI resolution and sensitivity, and will be more flexible for T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challenging for telescopes as well as the corre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BD6-C8EE-45BE-A056-7ADA97C12B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50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2240" y="457200"/>
            <a:ext cx="67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ere are we now in capabiliti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920" y="1371600"/>
            <a:ext cx="867096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itivity and resolution in typical observations, 5 G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EVN in 2007, 256 Mbps: 50 uJy/beam, ~6 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EVN, 512 Mbps: 35 uJy/beam, ~6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EVN in 2008, 512 Mbps, 10 uJy/beam, ~6 mas (~1 mas with 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EVN (no Ar), 1024 Mbps, 12 uJy/beam, ~1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BA, 512 Mbps, 30 uJy/beam, ~1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BA+GBT, 512 Mbps, 12 uJy/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-EVN is reaching very competitive sensitivity in 2008, but resolution remains an 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DB9-B00A-46E6-98B2-5AF2E521B99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50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9360" y="457200"/>
            <a:ext cx="49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nd how far can we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080" y="1371600"/>
            <a:ext cx="855000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ensitiv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1 Gbps test results; 10 Gbps technology is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ck with max. 1 Gbps with current EVN! =&gt; actions by CB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solution/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ould be crucial to get long baselines other than Ar and 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ides EVN telescopes, can we initiate a more global array including Australian and Japanese telesco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possible at all to make the EVN respond to some triggers on previously unscheduled dates? What needs to be done to achieve thi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E53-1C79-4C5E-9E3D-D7F5FA079C6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1160" y="3049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VLBI activities in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120" y="1066680"/>
            <a:ext cx="85312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e-VLBI test observations in every six week (on avera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h time is pre-allocated for science observation during t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ing proposals now must be sent to normal EVN deadlines; a new type of triggered proposal class, normal and spectral project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operations at 1.6 and 5GHz, up to 256 Mb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m, Jb2, Mc, On, Tr, W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22 GHz test with Metsahovi in March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and Shanghai demos, great success!; 512 Mbps in Australia science demo observations, with small number of t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cently: robust 512 Mbps operations, and 1 Gbps fring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06B-CEFE-4A80-8438-7E9A5AE08AE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9360" y="34920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cience results from the ‘Oz-demo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" y="1368360"/>
            <a:ext cx="68436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CA, Mopra and Parkes observations at 512 Mbps, correlated at J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: the nearby supernova in the LMC, only visible from the S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2239920"/>
            <a:ext cx="5029200" cy="393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26680" y="3009960"/>
            <a:ext cx="244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breatht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s of SN1987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AED-3D2A-4417-A671-EE873D4FD6A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6840" y="349200"/>
            <a:ext cx="35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And with VLBI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938400" cy="3930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43400" y="2543040"/>
            <a:ext cx="4657680" cy="3400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1720" y="5219640"/>
            <a:ext cx="37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resolution image of SN198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far (first VLBI!) – not bad for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telescope array. Countours 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arlier ATCA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4680" y="1143000"/>
            <a:ext cx="40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ous fits to the data to measure th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expanding remn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ingay et al., (in pre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13C-26EF-4C80-87A3-1558B6CB86E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9000" y="349200"/>
            <a:ext cx="70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EVN science projects in 2006/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3800" y="1066680"/>
            <a:ext cx="78174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g X-3, 20 Apr/18 May 2006, 128 Mbps, Tudos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S1915+105, 20 Apr 2006, 128 Mbps, Rushton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I +61.303, 256 Mbps, 26 Oct 2006, Perez-Torres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l, 26 Oct/14 Dec 2006, 256 Mbps, Paragi et 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brators near M81, 14 Dec 2006, 256 Mbps, Brunthaler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L microquasar candidates, 14 Dec 2006, Pandey et 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header” run, 15 XRBs, 29 Jan 2007, Rushton &amp; Spen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brators, 21 Feb 2007, 256 Mbps, Tudos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2020+3631 microquasar candidate, 28 Mar 2007, 256 Mbps, M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yg X-3, 12-13 Jun 2007, 256 Mbps, Tudos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ellar maser search, 22-23 Aug 2007, 32 Mbps, Langeveld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GRAL source redo, 6-7 Sep 2007, 256 Mbps, Pandey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 Ib/c SN 2007gr, 6-7 Sep 2007, 256 Mbps, Paragi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20B-EE0C-493B-A14B-7E4973CB50F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9000" y="1206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irst refereed journal pap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2960" y="914400"/>
            <a:ext cx="5406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RS 1915+105: Rushton et al. (2007), MNRA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7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L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yg X-3: Tudose et al. (2007), MNRA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7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L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40480" y="19810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Cyg 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824120"/>
            <a:ext cx="5410440" cy="2976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67080" y="3666960"/>
            <a:ext cx="4724640" cy="258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635440" y="2514600"/>
            <a:ext cx="32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math of a huge out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first detection of polarisation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BI scales in a microqua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5120" y="499104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PI’s really need is to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 these events in (1) closely sp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ing observations, (2) when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ppen, not on fixed d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4A5-634E-4448-8EE3-76787416779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System Management</cp:lastModifiedBy>
  <dcterms:modified xsi:type="dcterms:W3CDTF">2008-01-29T13:21:52Z</dcterms:modified>
  <cp:revision>212</cp:revision>
  <dc:subject/>
  <dc:title>Slide 1</dc:title>
</cp:coreProperties>
</file>